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E31B-2C49-4F94-AC63-5D1790F9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D7EF-BB7E-4D5E-9A5F-5BC179A8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7F073-2BD0-46ED-9CBF-485FBD83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8321F-E6B3-4677-8EA1-2084E282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47E6C-99FE-4EE8-870E-C8F7CEF5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540D6-5F15-4CDB-8918-5FB814CD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5757D-BC91-4DB5-8E6A-E74E94EC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16216-3558-4881-B65A-9DECEBA5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D1F0B-DD4B-41E4-BC31-C3ED5624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6C6ED-787C-492B-9E5B-80C8DBC6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02F2C-5C8C-43A6-B724-FD3BD5E9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C9DEB-E94D-4D0A-ACFD-ECF72549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7A81-76F5-4C82-A6DF-C49A23D1A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ACE3D-5408-4CF2-9B7E-9BF06178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AD197-2643-4B43-9E94-F9540599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7B4B8-D162-46E0-973F-F52A652E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8B6D2-A895-4715-ACF0-AE7DAAEA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83648-296C-4AAA-9028-2D71E62B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75FB6-A450-448B-8D6B-E5C439F0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5EC06-51AD-4EE5-BF5E-A5543ABA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3DD11-93FC-469F-A86C-FCA03C18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49276-252A-4B6F-BD19-6A0D897F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3741B-F650-48D9-94E2-827162AA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0005-D67A-4F5D-93FE-095B8678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2E6C6-8124-43EE-8A06-5E976CC2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CD087-541A-47BF-9E75-AA0824EE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CEF94-CDD8-44BF-8418-3DD9DE75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B174F-43E1-4612-9729-25EC3A1A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A0F87-9CA6-48FC-AC89-FF3FD699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ABCAD-027D-498F-BDD7-A0EB85E8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C95B0-3B5C-42CB-9FBD-D8DF720F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1AE97-01F1-4F94-91E0-894D55E2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ACDA1-06B0-49CF-A8D6-584CCAF6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AEDED-C8B2-4759-869D-4ACCA2CA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933A-A0F3-4735-86DA-95758A2F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88A96-CCD9-4D8B-B8E2-57FCA5DF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B2C5D-5A9D-43B2-B893-45CC2F2D5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F97D3-5D04-43AE-AAA1-4CCDF828C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AAA0D-7639-42A8-A0AE-877215AE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9670B-BA71-4FBA-95AF-3B8AC8F2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290C4-0030-4952-963D-44494E36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A9513-1AA3-4BE8-8AC2-3AE86560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1B2DE-F143-4278-99A3-CFEF8824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5902A-3DBE-4332-9EBE-83ABF78B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E3259-C24C-43C3-99DD-E7A7B695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F6D6-457D-4DD5-9CCB-19E89DE9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D6E7A-F672-4D9B-A862-B86451F4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9643C-8696-45BF-8989-BDBDC344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37999-9412-4E25-9D9B-EA21C219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FC364-24F9-43C3-BBE3-69412941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7CEBF-3D53-4B77-94FC-6B11D106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A35009-1881-42B1-8854-1B3F65C7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CB7BF3-CBA0-4D8E-BBAF-2B1BFB31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D20E85-0B9B-4537-B505-543AEDC8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E605A7-60F2-4F17-9D51-FCFFA258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07FDB2-28F8-42C9-9258-F362F729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3302-F73F-40CF-BDFA-11A71069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442A97-77AD-4AE4-A46B-30C1AA0A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DFA2B1-2CDE-492E-864D-9F970DDA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79BB9C-5934-4566-9764-53D99C93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EB9049-5828-459E-BDFD-CBDD8F29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11D0BE-4B71-408E-B06F-70DAB369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13EB1-01C4-4931-9486-29879C3F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E9C7DD-61B9-4B03-A8EC-5135C020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52A6D1-D947-4AB9-BD36-CB10F604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B243DD-D76F-4652-B8BC-283D1BB6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F23AA1-1428-467D-BB48-AF919324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29B5-1D89-4EB5-8E91-729ECA38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75469F-1756-4778-9385-4310781C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1E3DF1-C58F-49D6-9318-61EC28F7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972FE2-6331-4355-91ED-6D1CB8D3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E47FBF-4A27-42B2-A415-BDDADE4A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11989E-31C0-4A3E-90AD-704CC5E1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410198-69A1-4714-BE90-14B408E7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D6FEFF-E6D7-4F22-8C40-33237E41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379714-E2C2-4AC0-90F8-8AB93E42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10B18C-36EE-4E57-89FC-A2698437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2BDC14-1E4B-4542-B422-BF67EC20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F04D-FD0B-4A20-ACD2-71004733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020592-1EF4-4D9D-9C65-9DE12179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19155B-DCAC-41F3-A67C-304C0965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E798D0-619C-4F77-B12A-308F950B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55B098-ADE1-4BC3-8995-3CFABA17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E9ACDD-EDDA-4849-A6D0-9AB6BC79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D40F6F-F315-47F4-8E24-64A055D9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9FB3FE-BFF6-430D-9930-40B45EED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F85BA9-99A8-4227-AEF4-247F555E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809D3D-0046-40FD-A6F9-38DF1F08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35B59C-4CEA-40C0-959C-6D637AA2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D1DF-72F8-43A4-B469-17CCC30C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088473-54A4-4AD7-814F-F66CE208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10C944-5C76-4E4E-885C-2BC03183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39F76B-DA9E-4DEF-B869-17F3EFAA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1FDAD4-813A-46FA-B325-CB53719C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88D6AB-16E8-4D30-A0B8-4A6F2E18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4CE573-3631-4CB3-9543-7753BD96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9A9F4B-9DC7-458B-AD97-E9C648B8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7C7474-388D-4BDE-9781-D267C93C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F7A6E4-2F65-48B1-B6EC-395824A1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7FCAF6-7115-4803-A77E-888C3382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3E71-BBB1-4884-AD74-0CBB270C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36B1FD-9B66-49AE-AD0C-A4F2743C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2F24EA-5C19-4BAB-8E21-B4A90985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476AD5-1F07-4AAA-A393-13F8F4D3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7A358A-4820-4911-A623-11168D7E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B152A2-580E-474D-8769-42DE0FDC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A26879-F344-42EE-9BA5-11E7DB0D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132AC8-B924-472E-A983-F6D2B7C3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8125F0-023D-4878-B584-7FCF9475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74A6C5-19A0-4BF6-83A7-DA11F767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68CD7C-9B1A-4D30-9295-BA2279B5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E2CD-710A-4044-8131-2F4BA35A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D93C-A206-42D6-8542-D07F777A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39340A-4894-4122-A1E8-98782289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02E18F-C9D5-4B1A-9DB0-29BEDF70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0458CE-924E-4B55-8FB6-86EEF390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5F4933-D9B0-4177-8879-2081BDEC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F18B74-33F0-486A-982B-FAE99465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3D3729-75B7-4C17-90AA-CC7A2AFD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EDF70A-1866-4F12-B1D8-63FA3D1D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89A69A-9285-44FC-8BFC-C811DFE7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266778-E88D-47C0-95F5-8C7FEB34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567949-69B4-4086-AE21-AF56FA4E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F389-404F-4681-BB9E-F2F515B9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E18D21-B838-4771-8707-6B4958FB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217A56-E346-41CD-8FEF-0E106FA9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847EB8-2957-47DB-AD13-F424779A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1DC0D6-2671-49CF-A1AB-C1EC4C96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C78215-EDD8-4C17-A2B1-DB1DF62A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909002-2802-4565-9BD6-94A6C8FC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8165DB-EC2F-4B68-BF0D-29F34655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4402C4-C312-44CC-B4FF-0F817C9E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B05863-CC4E-4B4D-822B-6E38072C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F7F38B-268E-41A6-9EBA-E54C6950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E874-75D8-41DD-A624-63D365D0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3F9508-958D-4CEA-B383-3E6AFED7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53E63E-6584-4BB5-A322-3827CE74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3088C2-28A6-4C9C-A738-0B3B433A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FF06BF-44A9-48E7-8868-F654E708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DE55CF-364F-4CBF-9092-E5960597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61B302-38E8-4107-AFDC-85124D12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F11FBA-D19D-4670-A02D-E2F0AADF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771BAF-FFC7-44BB-9F50-A19F5111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E7CEEB-BD4D-4C4F-864B-89CE7E7F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40D56F-8BEA-4FCE-BE42-C6DEAF1C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C502-AD22-41F9-9B5D-AA65D58F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1B601B-3086-4342-A8A2-3C26D7D5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6DAD46-192D-4C20-8A27-F7D00DBF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8A2D42-040F-4034-A7C0-CE815B8C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5B6566-CC05-49E6-9A7A-5590C60C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4394B0-5189-4D12-B2C0-7A75631E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92A21B-26E1-48A3-8B0B-D8A64F8D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B99D4E-571F-40C5-BA31-B0E6ADE2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C2F9E6-A285-490D-8D56-3931144B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739338-2F67-4189-8386-5AECDAFE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F0C3DF-4BA4-467C-BF42-F16A59E1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3828-A146-4CD9-9DA1-75F3686C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A2DA38-E466-481C-B53F-39292276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0647CB-1C52-4214-B9E4-2885658A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FA85CF-B6CE-4B00-B810-490F4CC0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9E9275-BDA1-4999-B8A7-8EBF74FF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E72A5B-B968-426C-9108-6D915D67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73DBD7-9088-46FE-B5EB-E2BEA0B4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B2247F-F2C6-4F37-A983-BFA8AAA6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983E58-A2A8-40AB-96F0-7E0E30A5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AF06B1-762A-4A70-A5D8-A68A032D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6D2EBF-F96C-4F5D-8484-A6078684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E30A7-6F5C-4597-ABCA-1394DCE3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329C29-72D5-45FC-9099-8D7FB268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17EF14-4324-4CB9-8776-36AC826F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D92853-3DE6-4DE3-BFEA-F3338018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C3956A-162F-4BCE-B23A-EFD67FBF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C9E0C1-EBFE-4478-BA6D-CE1F074A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D67C5D-8CD4-4B4E-8D8E-96EC17A8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322E0D-EB18-445B-ADC8-52E19BA9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9909A9-6846-4275-8BD5-2C67E8D7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AD48AA-13F3-4F77-80F9-77917997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D857FD-4179-4BDB-A072-9295BF46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791EC-AA43-4CC2-A876-5C49C8FA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8A29D2-3E88-4E54-A33B-9780A2EC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C325BB-553B-42BB-AF51-3896AB26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1487D5-99E0-48F0-AB0C-30B52066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0F77D6-2C25-4DED-88CF-2A9DB1EE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959E02-C789-4018-AE8C-448F0AFE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DFDCCE-CAFA-4EA7-A428-0FDF0C01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C9CDDE-40A7-4A7A-B5EE-37551447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C00396-1591-4E5C-A9B2-1EFA9464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CD6977-1416-4341-8F5E-D03D4344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F8B2D9-D304-4368-A5BE-CE7FBBE6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6B325-1520-40B2-B836-63DBB6B1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450952-8B76-4D1F-AE68-BB3BEFD4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FFB1A4-C758-4BAF-BF22-3B4C548C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B646E8-142E-490A-9B38-FB84B27F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30874A-5BDB-44DF-8647-C8790B07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8F3ED8-FE11-4244-A2B2-1E7812EA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17F2AD-4AA9-40E0-8360-AD976151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46B4F2-2562-47BC-944B-C65AE543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D7EBA9-4FE3-421C-B62F-BC23E315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64627F-581A-4B6F-B99C-D9AEC6F7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C4EDD7-6257-4966-8EA0-3299220C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853DF-363B-421C-B1B3-34245999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4D652F-D9E2-4DA3-8C1B-560383E7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9B3691-0467-4A86-A083-39E9C4D8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8AAE6B-24DE-4651-BE48-7AC3436E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B1852C-48BC-40D8-8CB7-D4730A9A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CA12C6-4016-42C4-9681-88B17977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23CA2E-1B81-45A0-8163-E0D82ED2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3C07E5-A374-4F1A-9A50-25D59C38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A74830-E963-4E85-980D-9760069F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23F910-F7D6-47D0-9606-858DDC51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89E6AC-DA01-4EA7-A5F2-8576CADE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6773D-0D71-4737-844D-80E9E08D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8BC727-873F-4DFF-A5B5-98FE0D50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2B6CC0-9691-443D-9AFA-677FAF0F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D17CB6-D133-4569-A50F-09099D8C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0ED68C-BF01-426D-8E85-E64F37DC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3C6915-7444-4C32-A605-735186D1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C3AFE3-6714-48BD-8990-F03AC1F5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961CC3-708B-47AD-A20B-6DC1FF5F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616CAB-2B69-433F-8C45-E3EC5F85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FCCF69-3841-4FDA-8813-E0E958D0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05642A-3BCB-4B5C-A2EF-2173272F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6088-384A-4624-A624-25DCEB6D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C5247-BCF2-44AC-B4DE-0C9C7D53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1E2A5D-170B-4F53-A0E4-3335511D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025AE8-E182-4DD4-9B3F-24E7AF94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7FD807-8B69-4F21-9F12-932E5AB4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020F89-4E25-4441-BD70-24F61C83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AF20DA-AF03-4296-BB09-FB8EFC99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2724E4-FE1D-4037-A7F8-23D40611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1EC511-F755-425E-8EDA-848931EF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E1B68F-7593-44F8-8FE2-E25312D0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BCA229-AD11-4F2C-9618-1C05E239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5B9660-096C-4FE9-BA7F-50E412D9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B30C4-58EB-415E-A456-9C12CC20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837AE8-7FCC-40FA-9C98-90846299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D9C59A-60A1-47F4-BD4A-1A034E79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0B220C-86BF-430C-8E73-181635D1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A7CFCB-05FD-4616-9072-78BEA590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1C00F9-4DB7-4BAE-BB6F-9289C557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A56DF0-A698-461A-8A9E-7C5604C2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CEA204-A833-4FF3-B62C-F3DD377C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9421C6-DEF2-4713-B324-000E7252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C3CA4E-2549-4C5F-A2A1-A47E0AEA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550379-4101-4FCC-9FB0-10E2EFB6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2A8D4-CAC5-45EF-906B-D5A39441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AFE3E1-A307-4566-A547-33397D81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BA686C-903D-4C8D-A5CB-D40829D1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21A51C-FD17-4AED-9B9F-980FE7ED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D4E33F-7754-4486-AF37-BCB9BA75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88993D-463B-47B7-B40A-483EE62A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A9E68C-7A14-48F2-B664-8F20C4C9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6FB3FF-96B3-4667-9673-D6BE318D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D5ACBB-14EC-4842-88E0-8CD1D932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856C09-C6AB-4D0D-BEC7-B178AF69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581537-6130-4A88-8B80-DA527F7D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18A77-A615-49FA-8DA1-ECC21F82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A4CDEB-E2CC-4D7A-945C-AB142B1E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DD9DFB-B407-4F4A-A696-4BE0C6F1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3B25C9-6395-480F-912F-3F14DB89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EB7409-4756-4681-88E4-590B6904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5F5CD7-49F5-4F0F-8254-35F3EBF6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3CFCAA-0A2E-4DAF-959E-E652ACC9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D48CCC-1317-4B05-9E2B-2FB224EB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95965B4-9AC6-4AE6-8C80-57DFB4BB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3E1529-3A3C-4027-AA39-7C0BA16E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4EAF90-954D-408B-95F5-C5109404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46F08-0808-4510-BD55-A1645AD5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07E8F8-F89A-4740-89F2-83E1DA02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6C257A-9D69-4EC2-9607-F12A8780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EB7FC0-2BFB-45B8-AA0D-16BAED51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16DE9D-AE02-426A-879A-6FF91023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FA23649-FF20-4189-B5A4-DC5C7900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253B18-D422-4026-AECB-ECA8421A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FAFF8E-1BAD-40E1-9C0B-1EB59AA9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879DFD-0784-43E1-BC6A-09DE3BA6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FCB6A37-4FDA-4277-92C6-1B30EEEC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985518-16A7-4CCD-B362-CE516A48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EDB27-9814-44D0-82B7-1585927B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3F292C-658D-43AA-B150-6FC6B6D5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E3A1A8-997B-4FB1-BD3B-D191D4E6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81EF98-DB81-4BBF-84D7-B935D7DF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66A7E4-B028-4BD3-8AC8-1E85D52D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B7CE06-2511-44D6-A004-86668410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F826370-AF6A-44FA-852C-53491C23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F2612A-E937-46C1-A20C-5918807C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75661E-E88F-45BC-9571-A3A98AAB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49F7D8-5709-4C82-B793-A29B1FD6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A45C54-D3E9-4046-9554-6EAE548D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97EBF-21E9-482A-98D0-E88D4609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F66E83-3A5F-4354-8B3C-8A7B15B7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01F30B0-21DF-49D0-A5BF-1189F1F0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124DC6-EA55-4191-9B5C-CB5FB78F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5FAD74-DA29-4925-809C-1A1AF89E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F5A9373-3348-4482-907B-08BB4490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DD74BF-D3DA-44D6-AFF3-EA20BE6B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C3791A9-C837-42EF-8331-2FE1CA51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EE30A77-5EC0-4A5E-B657-B767A794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A32416F-DA07-4FD0-87BD-3B389420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4FEAD52-983D-4A7F-90AB-007B74C8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A4EF5-7A14-4210-95E1-C09F4D5B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815E705-D988-48F5-B0C6-96D0AAF4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C454E6-FD59-4E73-B6B4-70D27A85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D5A2915-23AE-4D4E-A568-A265083C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DF62B-D3B5-446A-AFCE-8A44899B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BF9CB-5C0E-4CCE-916C-FFAA2334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F5B2-DCEB-4262-A069-2C5A92FC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BE6F3-9486-4508-AE95-58DF706D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FD944-1D5E-4541-A051-96FA8412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DF3F6-5731-466B-8BAC-EFE34F92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C4129-0616-4670-BCBD-AFB0B937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40A9F-05BE-440F-A147-B3188600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15D1A-C10E-4351-AAAE-D99CECBF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E9C57-6B7A-44AD-AD49-02A7EC2F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3055B-90B9-4AC8-BCB5-5F837991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C8C8C-01BF-4F51-91D9-B201F949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072D9-6EF0-4E77-9870-91467E8E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D5C6-EFE8-45C9-9A35-996C4757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089A9-592B-41EC-A59A-656E70B6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AC3DA-1B75-4583-BB41-27330A0C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8311D-7CEF-42BC-95CB-23EB9564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A1347-0522-4040-A91F-FF5F44A1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543C1-26A3-4C1F-B088-FC008FFC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45655-FB8A-49A3-944F-16EB35C8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EBDE0-78C2-4729-B579-3FB813D3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C84A9-6925-4297-8BC1-610B00CE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28AD7-E20C-446B-9AE8-24E84E0E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31083-68AF-47A7-8F0E-5AE49B86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04B8-9BFF-423D-A860-9B685F7B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936BB-6A57-43B4-A21F-4CCDA492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59A00-C622-4365-9B4F-7FC6D924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2D5A0-0388-4134-86B0-18938917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B77EC-34C4-41E5-912D-4B6CBD9B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DA852-04D4-4F0F-8C83-707DD40B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F27D3-9488-41AC-B8EC-659E9C18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41E55-BBDF-4968-8DF7-F35FEC33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883D5-5A94-437D-9EE4-D1FED0B6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3A36C-E8C6-46F4-8805-6D8D77DD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6B73F-4F03-4621-A791-68870D42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5306-4834-4E78-9FC7-A60D5C0A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D031D-1890-42DA-BACC-3A3C9E47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58DA0-509F-42BE-AA66-239816C4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C6005-050B-4B40-99F5-83680383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E9144-7B29-4BD5-A18B-87399EF7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17149-7F25-4ED5-B68C-9997419C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62110-1644-4747-8B14-3A571574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4D2A3-7E7D-445E-85D7-CDCDC2EB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DD918-E960-49F2-A4BB-A78BD8EA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D0B7B-8886-46EF-A75E-C4A00480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BDB58-EBD8-4C09-BC43-685DFE09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1493-E3BB-4BAC-81EA-1EB996BE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1AB57-6EE7-4729-91F8-C6069CFB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7B0C3-DFAA-4B18-821E-E23D6F98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8E727-2DC0-45B8-98D5-6A54F4D7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C16A0-5E35-4893-92CF-38AAF019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C3E75-0817-4FCE-85FC-43224366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E1062-44DB-4E7D-A56A-7ADDCDD2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790A8-3A44-4A81-ACD9-7C722FCF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63CD7-0E50-4D83-B7E0-8B77CDE5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D23F7-20B7-4943-AA86-E6D6021D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F5664-C0DA-4435-8035-2C7BC405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BF0F-6D52-41A2-B747-A5F7B66E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A89DE-6EBB-4263-A2D4-55077627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98C31-0E7D-4A03-B12E-CEACEE92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8EE85-AB42-41EB-8FE4-3802E2F2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5B01D-2E35-4483-969E-369C9F73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D94F1-60DA-432C-BD2A-49BB3901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FEA10-E289-43A4-8246-E24E2331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471DC-9BB0-4F46-A11E-9218EE77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25D33-F1EF-4DD7-B448-DFC8CD39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E681B-810B-4730-942E-C2FC51EF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6C622-0817-4AFF-9EEC-AF11C015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9C5E-442F-4358-9492-C21CC03060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2789-66E2-41EF-AC51-95B8CB2639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81A5-1D1F-4891-8112-3597ABC350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A6D7-7109-4E08-9F65-838D84C25D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C970-DCB0-41AF-BEE2-655CD23A8A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72C2-608B-410E-BC30-AC8C7FE296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F391-94EF-4086-8E4D-6A45393C3D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189F-7B5A-4577-A4B2-A525498303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5EB2-ED7D-4A02-ADCE-4501233A43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3B07-01DD-444D-8662-AD269274F9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114C-8DC5-471A-BD89-15E95A6A29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91F9-7E43-4682-9572-E1E3B75DAF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DE25-968D-4ABC-8951-D66E09D280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17DE-18A6-4F1A-BE68-1D2FE6CC22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2BA6-A10B-41CB-87DD-7E41588DAB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7493-BC0D-41EB-9C78-9465E15BEC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BBB9-DFA7-4FF3-93DC-CCA56BED35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9DEF-9185-4AFF-AA60-CE3A480E2F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E75B-7212-4F88-A94C-D08845541D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54AD-BE5D-41D1-BD6E-F2B4F8D914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E690-ABA5-4FE7-A326-0A890E24A1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89D9-F990-48E2-90EB-2514B2AABD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C51C-C0B6-4B26-B742-A5A15752BC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BFAC-A39A-41A1-825A-7A81689EEC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F49F-6F48-4880-8FC2-CDDDF46E8E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7250-7F1F-4DDA-B4B1-E0CF639A5A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067E-72EA-4647-9749-176DAE39AE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4462-43DF-4F02-90EE-BCEBAD3331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FE3E-83CF-493F-8B60-E2D0CB5623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B930-BEF3-44D5-940D-99C6FD7585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DFD1-D184-407E-9C66-2414D28067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D2ED-8A8A-43BF-8C3A-1FEDA08CE6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FE4F-1104-41E4-8502-AFAB8E2714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8AEE-6E8D-442A-9581-8A02957740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2DC7-060C-4192-A970-1D3A0D9324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1A5E-E3BB-4E64-910B-AE1B134BF6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CEF7-50EB-4765-9957-E676490BEC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CC2A-F697-48A7-A55A-BD2BC88B1B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068A-6AF3-4954-B31D-418049D254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2FFE-D540-49B7-9DD9-E9E41F6F9B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9007-3F97-49A0-9AA2-91715AC5B8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041A-B710-47E5-ABF7-059333EC3E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D28B-BDAC-4DE3-A717-2E6C1B7AF3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DDE1-0E70-4B8F-A3D0-4A5395764F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430B-751D-4EEE-AFE9-635EBFBC70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1426-8968-4703-97EB-CC7FB4032B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C330-2DA5-4304-8A55-EFE29A5A3F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B357-C21D-40BB-A8C7-8A7AD79516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517A-6D02-4B82-AE40-B354D4F6DF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5A2C-2DB0-4F7F-BEF4-26451CE0B1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3276720" y="1628640"/>
            <a:ext cx="2066760" cy="76212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1504800" y="3005280"/>
            <a:ext cx="61344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图片 116737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58040" cy="5114880"/>
          </a:xfrm>
          <a:prstGeom prst="rect">
            <a:avLst/>
          </a:prstGeom>
          <a:ln w="0">
            <a:noFill/>
          </a:ln>
        </p:spPr>
      </p:pic>
      <p:sp>
        <p:nvSpPr>
          <p:cNvPr id="1481" name="矩形 116738"/>
          <p:cNvSpPr/>
          <p:nvPr/>
        </p:nvSpPr>
        <p:spPr>
          <a:xfrm>
            <a:off x="7740720" y="1268280"/>
            <a:ext cx="5032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图片 115713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67760" cy="4305240"/>
          </a:xfrm>
          <a:prstGeom prst="rect">
            <a:avLst/>
          </a:prstGeom>
          <a:ln w="0">
            <a:noFill/>
          </a:ln>
        </p:spPr>
      </p:pic>
      <p:pic>
        <p:nvPicPr>
          <p:cNvPr id="1483" name="图片 115714" descr=""/>
          <p:cNvPicPr/>
          <p:nvPr/>
        </p:nvPicPr>
        <p:blipFill>
          <a:blip r:embed="rId2"/>
          <a:stretch/>
        </p:blipFill>
        <p:spPr>
          <a:xfrm>
            <a:off x="900000" y="5373720"/>
            <a:ext cx="6591240" cy="581040"/>
          </a:xfrm>
          <a:prstGeom prst="rect">
            <a:avLst/>
          </a:prstGeom>
          <a:ln w="0">
            <a:noFill/>
          </a:ln>
        </p:spPr>
      </p:pic>
      <p:sp>
        <p:nvSpPr>
          <p:cNvPr id="1484" name="矩形 115715"/>
          <p:cNvSpPr/>
          <p:nvPr/>
        </p:nvSpPr>
        <p:spPr>
          <a:xfrm>
            <a:off x="7799400" y="1617840"/>
            <a:ext cx="5032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图片 114689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48680" cy="4991400"/>
          </a:xfrm>
          <a:prstGeom prst="rect">
            <a:avLst/>
          </a:prstGeom>
          <a:ln w="0">
            <a:noFill/>
          </a:ln>
        </p:spPr>
      </p:pic>
      <p:sp>
        <p:nvSpPr>
          <p:cNvPr id="1486" name="矩形 114691"/>
          <p:cNvSpPr/>
          <p:nvPr/>
        </p:nvSpPr>
        <p:spPr>
          <a:xfrm>
            <a:off x="1766880" y="1795320"/>
            <a:ext cx="380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14692"/>
          <p:cNvSpPr/>
          <p:nvPr/>
        </p:nvSpPr>
        <p:spPr>
          <a:xfrm>
            <a:off x="4129200" y="1808280"/>
            <a:ext cx="380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114693"/>
          <p:cNvSpPr/>
          <p:nvPr/>
        </p:nvSpPr>
        <p:spPr>
          <a:xfrm>
            <a:off x="6453360" y="1808280"/>
            <a:ext cx="380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14694"/>
          <p:cNvSpPr/>
          <p:nvPr/>
        </p:nvSpPr>
        <p:spPr>
          <a:xfrm>
            <a:off x="2135160" y="2532240"/>
            <a:ext cx="380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14695"/>
          <p:cNvSpPr/>
          <p:nvPr/>
        </p:nvSpPr>
        <p:spPr>
          <a:xfrm>
            <a:off x="1754280" y="3319560"/>
            <a:ext cx="380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14696"/>
          <p:cNvSpPr/>
          <p:nvPr/>
        </p:nvSpPr>
        <p:spPr>
          <a:xfrm>
            <a:off x="3544920" y="3319560"/>
            <a:ext cx="380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14697"/>
          <p:cNvSpPr/>
          <p:nvPr/>
        </p:nvSpPr>
        <p:spPr>
          <a:xfrm>
            <a:off x="5246640" y="3357720"/>
            <a:ext cx="380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14698"/>
          <p:cNvSpPr/>
          <p:nvPr/>
        </p:nvSpPr>
        <p:spPr>
          <a:xfrm>
            <a:off x="6504120" y="3344760"/>
            <a:ext cx="380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14699"/>
          <p:cNvSpPr/>
          <p:nvPr/>
        </p:nvSpPr>
        <p:spPr>
          <a:xfrm>
            <a:off x="1766880" y="4145040"/>
            <a:ext cx="380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14700"/>
          <p:cNvSpPr/>
          <p:nvPr/>
        </p:nvSpPr>
        <p:spPr>
          <a:xfrm>
            <a:off x="3976560" y="4132440"/>
            <a:ext cx="3812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14701"/>
          <p:cNvSpPr/>
          <p:nvPr/>
        </p:nvSpPr>
        <p:spPr>
          <a:xfrm>
            <a:off x="5640480" y="4145040"/>
            <a:ext cx="380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14702"/>
          <p:cNvSpPr/>
          <p:nvPr/>
        </p:nvSpPr>
        <p:spPr>
          <a:xfrm>
            <a:off x="7101000" y="4145040"/>
            <a:ext cx="380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14703"/>
          <p:cNvSpPr/>
          <p:nvPr/>
        </p:nvSpPr>
        <p:spPr>
          <a:xfrm>
            <a:off x="1830240" y="4932360"/>
            <a:ext cx="3812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14704"/>
          <p:cNvSpPr/>
          <p:nvPr/>
        </p:nvSpPr>
        <p:spPr>
          <a:xfrm>
            <a:off x="3506760" y="4944960"/>
            <a:ext cx="380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14705"/>
          <p:cNvSpPr/>
          <p:nvPr/>
        </p:nvSpPr>
        <p:spPr>
          <a:xfrm>
            <a:off x="5551560" y="4919760"/>
            <a:ext cx="380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14706"/>
          <p:cNvSpPr/>
          <p:nvPr/>
        </p:nvSpPr>
        <p:spPr>
          <a:xfrm>
            <a:off x="6948360" y="4919760"/>
            <a:ext cx="3812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矩形 114707"/>
          <p:cNvSpPr/>
          <p:nvPr/>
        </p:nvSpPr>
        <p:spPr>
          <a:xfrm>
            <a:off x="1817640" y="5630760"/>
            <a:ext cx="380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9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3" name="图片 113665" descr=""/>
          <p:cNvPicPr/>
          <p:nvPr/>
        </p:nvPicPr>
        <p:blipFill>
          <a:blip r:embed="rId1"/>
          <a:stretch/>
        </p:blipFill>
        <p:spPr>
          <a:xfrm>
            <a:off x="480960" y="957240"/>
            <a:ext cx="8182080" cy="4943520"/>
          </a:xfrm>
          <a:prstGeom prst="rect">
            <a:avLst/>
          </a:prstGeom>
          <a:ln w="0">
            <a:noFill/>
          </a:ln>
        </p:spPr>
      </p:pic>
      <p:sp>
        <p:nvSpPr>
          <p:cNvPr id="1504" name="矩形 113666"/>
          <p:cNvSpPr/>
          <p:nvPr/>
        </p:nvSpPr>
        <p:spPr>
          <a:xfrm>
            <a:off x="1919160" y="2125800"/>
            <a:ext cx="3084480" cy="60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矩形 113667"/>
          <p:cNvSpPr/>
          <p:nvPr/>
        </p:nvSpPr>
        <p:spPr>
          <a:xfrm>
            <a:off x="1969920" y="3916440"/>
            <a:ext cx="3084840" cy="60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13668"/>
          <p:cNvSpPr/>
          <p:nvPr/>
        </p:nvSpPr>
        <p:spPr>
          <a:xfrm>
            <a:off x="2008080" y="5224320"/>
            <a:ext cx="4076640" cy="60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6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7" name="图片 112641" descr=""/>
          <p:cNvPicPr/>
          <p:nvPr/>
        </p:nvPicPr>
        <p:blipFill>
          <a:blip r:embed="rId1"/>
          <a:stretch/>
        </p:blipFill>
        <p:spPr>
          <a:xfrm>
            <a:off x="585720" y="2081160"/>
            <a:ext cx="7972560" cy="2695680"/>
          </a:xfrm>
          <a:prstGeom prst="rect">
            <a:avLst/>
          </a:prstGeom>
          <a:ln w="0">
            <a:noFill/>
          </a:ln>
        </p:spPr>
      </p:pic>
      <p:sp>
        <p:nvSpPr>
          <p:cNvPr id="1508" name="矩形 112642"/>
          <p:cNvSpPr/>
          <p:nvPr/>
        </p:nvSpPr>
        <p:spPr>
          <a:xfrm>
            <a:off x="1843200" y="2608200"/>
            <a:ext cx="2512800" cy="61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矩形 112643"/>
          <p:cNvSpPr/>
          <p:nvPr/>
        </p:nvSpPr>
        <p:spPr>
          <a:xfrm>
            <a:off x="1969920" y="3903840"/>
            <a:ext cx="4257720" cy="76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8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3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0" name="图片 111617" descr=""/>
          <p:cNvPicPr/>
          <p:nvPr/>
        </p:nvPicPr>
        <p:blipFill>
          <a:blip r:embed="rId1"/>
          <a:stretch/>
        </p:blipFill>
        <p:spPr>
          <a:xfrm>
            <a:off x="423720" y="1233360"/>
            <a:ext cx="8296560" cy="4391280"/>
          </a:xfrm>
          <a:prstGeom prst="rect">
            <a:avLst/>
          </a:prstGeom>
          <a:ln w="0">
            <a:noFill/>
          </a:ln>
        </p:spPr>
      </p:pic>
      <p:sp>
        <p:nvSpPr>
          <p:cNvPr id="1511" name="矩形 111618"/>
          <p:cNvSpPr/>
          <p:nvPr/>
        </p:nvSpPr>
        <p:spPr>
          <a:xfrm>
            <a:off x="1908000" y="5114880"/>
            <a:ext cx="3168720" cy="439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0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2" name="图片 110593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39160" cy="5657760"/>
          </a:xfrm>
          <a:prstGeom prst="rect">
            <a:avLst/>
          </a:prstGeom>
          <a:ln w="0">
            <a:noFill/>
          </a:ln>
        </p:spPr>
      </p:pic>
      <p:sp>
        <p:nvSpPr>
          <p:cNvPr id="1513" name="矩形 110594"/>
          <p:cNvSpPr/>
          <p:nvPr/>
        </p:nvSpPr>
        <p:spPr>
          <a:xfrm>
            <a:off x="2784600" y="3133800"/>
            <a:ext cx="4667040" cy="43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110595"/>
          <p:cNvSpPr/>
          <p:nvPr/>
        </p:nvSpPr>
        <p:spPr>
          <a:xfrm>
            <a:off x="7254720" y="5292720"/>
            <a:ext cx="1062360" cy="439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矩形 110596"/>
          <p:cNvSpPr/>
          <p:nvPr/>
        </p:nvSpPr>
        <p:spPr>
          <a:xfrm>
            <a:off x="1400040" y="5864400"/>
            <a:ext cx="23799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7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2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7" dur="1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124929" descr=""/>
          <p:cNvPicPr/>
          <p:nvPr/>
        </p:nvPicPr>
        <p:blipFill>
          <a:blip r:embed="rId1"/>
          <a:stretch/>
        </p:blipFill>
        <p:spPr>
          <a:xfrm>
            <a:off x="328680" y="1247760"/>
            <a:ext cx="8486640" cy="4362480"/>
          </a:xfrm>
          <a:prstGeom prst="rect">
            <a:avLst/>
          </a:prstGeom>
          <a:ln w="0">
            <a:noFill/>
          </a:ln>
        </p:spPr>
      </p:pic>
      <p:sp>
        <p:nvSpPr>
          <p:cNvPr id="1435" name="矩形 124931"/>
          <p:cNvSpPr/>
          <p:nvPr/>
        </p:nvSpPr>
        <p:spPr>
          <a:xfrm>
            <a:off x="5003640" y="2349360"/>
            <a:ext cx="23878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2"/>
          <p:cNvSpPr/>
          <p:nvPr/>
        </p:nvSpPr>
        <p:spPr>
          <a:xfrm>
            <a:off x="8292960" y="2336760"/>
            <a:ext cx="67176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3"/>
          <p:cNvSpPr/>
          <p:nvPr/>
        </p:nvSpPr>
        <p:spPr>
          <a:xfrm>
            <a:off x="635040" y="2781360"/>
            <a:ext cx="21366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4"/>
          <p:cNvSpPr/>
          <p:nvPr/>
        </p:nvSpPr>
        <p:spPr>
          <a:xfrm>
            <a:off x="8077320" y="3606840"/>
            <a:ext cx="6714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5"/>
          <p:cNvSpPr/>
          <p:nvPr/>
        </p:nvSpPr>
        <p:spPr>
          <a:xfrm>
            <a:off x="990720" y="4025880"/>
            <a:ext cx="9172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4936"/>
          <p:cNvSpPr/>
          <p:nvPr/>
        </p:nvSpPr>
        <p:spPr>
          <a:xfrm>
            <a:off x="5292720" y="4005360"/>
            <a:ext cx="8636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4937"/>
          <p:cNvSpPr/>
          <p:nvPr/>
        </p:nvSpPr>
        <p:spPr>
          <a:xfrm>
            <a:off x="6732720" y="4446720"/>
            <a:ext cx="9172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4938"/>
          <p:cNvSpPr/>
          <p:nvPr/>
        </p:nvSpPr>
        <p:spPr>
          <a:xfrm>
            <a:off x="3851280" y="4826160"/>
            <a:ext cx="115236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图片 123905" descr=""/>
          <p:cNvPicPr/>
          <p:nvPr/>
        </p:nvPicPr>
        <p:blipFill>
          <a:blip r:embed="rId1"/>
          <a:stretch/>
        </p:blipFill>
        <p:spPr>
          <a:xfrm>
            <a:off x="728640" y="1938240"/>
            <a:ext cx="7686720" cy="2981520"/>
          </a:xfrm>
          <a:prstGeom prst="rect">
            <a:avLst/>
          </a:prstGeom>
          <a:ln w="0">
            <a:noFill/>
          </a:ln>
        </p:spPr>
      </p:pic>
      <p:sp>
        <p:nvSpPr>
          <p:cNvPr id="1444" name="矩形 123906"/>
          <p:cNvSpPr/>
          <p:nvPr/>
        </p:nvSpPr>
        <p:spPr>
          <a:xfrm>
            <a:off x="5043600" y="3852720"/>
            <a:ext cx="11840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3907"/>
          <p:cNvSpPr/>
          <p:nvPr/>
        </p:nvSpPr>
        <p:spPr>
          <a:xfrm>
            <a:off x="4281480" y="4525920"/>
            <a:ext cx="15858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122881" descr=""/>
          <p:cNvPicPr/>
          <p:nvPr/>
        </p:nvPicPr>
        <p:blipFill>
          <a:blip r:embed="rId1"/>
          <a:stretch/>
        </p:blipFill>
        <p:spPr>
          <a:xfrm>
            <a:off x="714240" y="1623960"/>
            <a:ext cx="7715520" cy="3610080"/>
          </a:xfrm>
          <a:prstGeom prst="rect">
            <a:avLst/>
          </a:prstGeom>
          <a:ln w="0">
            <a:noFill/>
          </a:ln>
        </p:spPr>
      </p:pic>
      <p:sp>
        <p:nvSpPr>
          <p:cNvPr id="1447" name="矩形 122882"/>
          <p:cNvSpPr/>
          <p:nvPr/>
        </p:nvSpPr>
        <p:spPr>
          <a:xfrm>
            <a:off x="4014720" y="3611520"/>
            <a:ext cx="4860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122883"/>
          <p:cNvSpPr/>
          <p:nvPr/>
        </p:nvSpPr>
        <p:spPr>
          <a:xfrm>
            <a:off x="4662360" y="4030560"/>
            <a:ext cx="7016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22884"/>
          <p:cNvSpPr/>
          <p:nvPr/>
        </p:nvSpPr>
        <p:spPr>
          <a:xfrm>
            <a:off x="3138480" y="4437000"/>
            <a:ext cx="9288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22885"/>
          <p:cNvSpPr/>
          <p:nvPr/>
        </p:nvSpPr>
        <p:spPr>
          <a:xfrm>
            <a:off x="4548240" y="4843440"/>
            <a:ext cx="81576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121857" descr=""/>
          <p:cNvPicPr/>
          <p:nvPr/>
        </p:nvPicPr>
        <p:blipFill>
          <a:blip r:embed="rId1"/>
          <a:stretch/>
        </p:blipFill>
        <p:spPr>
          <a:xfrm>
            <a:off x="366840" y="1009800"/>
            <a:ext cx="8410320" cy="4838400"/>
          </a:xfrm>
          <a:prstGeom prst="rect">
            <a:avLst/>
          </a:prstGeom>
          <a:ln w="0">
            <a:noFill/>
          </a:ln>
        </p:spPr>
      </p:pic>
      <p:sp>
        <p:nvSpPr>
          <p:cNvPr id="1452" name="矩形 121858"/>
          <p:cNvSpPr/>
          <p:nvPr/>
        </p:nvSpPr>
        <p:spPr>
          <a:xfrm>
            <a:off x="8167680" y="2392200"/>
            <a:ext cx="3938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121859"/>
          <p:cNvSpPr/>
          <p:nvPr/>
        </p:nvSpPr>
        <p:spPr>
          <a:xfrm>
            <a:off x="1258920" y="3675240"/>
            <a:ext cx="431640" cy="31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121860"/>
          <p:cNvSpPr/>
          <p:nvPr/>
        </p:nvSpPr>
        <p:spPr>
          <a:xfrm>
            <a:off x="2732040" y="3687840"/>
            <a:ext cx="4320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121861"/>
          <p:cNvSpPr/>
          <p:nvPr/>
        </p:nvSpPr>
        <p:spPr>
          <a:xfrm>
            <a:off x="4154400" y="3700440"/>
            <a:ext cx="4320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121862"/>
          <p:cNvSpPr/>
          <p:nvPr/>
        </p:nvSpPr>
        <p:spPr>
          <a:xfrm>
            <a:off x="5500800" y="3700440"/>
            <a:ext cx="4316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121863"/>
          <p:cNvSpPr/>
          <p:nvPr/>
        </p:nvSpPr>
        <p:spPr>
          <a:xfrm>
            <a:off x="1258920" y="4233960"/>
            <a:ext cx="4316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121864"/>
          <p:cNvSpPr/>
          <p:nvPr/>
        </p:nvSpPr>
        <p:spPr>
          <a:xfrm>
            <a:off x="2313000" y="4233960"/>
            <a:ext cx="4316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121865"/>
          <p:cNvSpPr/>
          <p:nvPr/>
        </p:nvSpPr>
        <p:spPr>
          <a:xfrm>
            <a:off x="4052880" y="4233960"/>
            <a:ext cx="4316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21866"/>
          <p:cNvSpPr/>
          <p:nvPr/>
        </p:nvSpPr>
        <p:spPr>
          <a:xfrm>
            <a:off x="5272200" y="4208400"/>
            <a:ext cx="4316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21867"/>
          <p:cNvSpPr/>
          <p:nvPr/>
        </p:nvSpPr>
        <p:spPr>
          <a:xfrm>
            <a:off x="1233360" y="4767120"/>
            <a:ext cx="4320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21868"/>
          <p:cNvSpPr/>
          <p:nvPr/>
        </p:nvSpPr>
        <p:spPr>
          <a:xfrm>
            <a:off x="2706840" y="4767120"/>
            <a:ext cx="4316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21869"/>
          <p:cNvSpPr/>
          <p:nvPr/>
        </p:nvSpPr>
        <p:spPr>
          <a:xfrm>
            <a:off x="4230720" y="4767120"/>
            <a:ext cx="4316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21870"/>
          <p:cNvSpPr/>
          <p:nvPr/>
        </p:nvSpPr>
        <p:spPr>
          <a:xfrm>
            <a:off x="5742000" y="4767120"/>
            <a:ext cx="4316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21871"/>
          <p:cNvSpPr/>
          <p:nvPr/>
        </p:nvSpPr>
        <p:spPr>
          <a:xfrm>
            <a:off x="1271520" y="5313240"/>
            <a:ext cx="4320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21872"/>
          <p:cNvSpPr/>
          <p:nvPr/>
        </p:nvSpPr>
        <p:spPr>
          <a:xfrm>
            <a:off x="2401920" y="5313240"/>
            <a:ext cx="4316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21873"/>
          <p:cNvSpPr/>
          <p:nvPr/>
        </p:nvSpPr>
        <p:spPr>
          <a:xfrm>
            <a:off x="4192560" y="5326200"/>
            <a:ext cx="4320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121874"/>
          <p:cNvSpPr/>
          <p:nvPr/>
        </p:nvSpPr>
        <p:spPr>
          <a:xfrm>
            <a:off x="5322960" y="5313240"/>
            <a:ext cx="4316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120833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248680" cy="5371920"/>
          </a:xfrm>
          <a:prstGeom prst="rect">
            <a:avLst/>
          </a:prstGeom>
          <a:ln w="0">
            <a:noFill/>
          </a:ln>
        </p:spPr>
      </p:pic>
      <p:sp>
        <p:nvSpPr>
          <p:cNvPr id="1470" name="矩形 120834"/>
          <p:cNvSpPr/>
          <p:nvPr/>
        </p:nvSpPr>
        <p:spPr>
          <a:xfrm>
            <a:off x="4979880" y="1452600"/>
            <a:ext cx="2471760" cy="67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20835"/>
          <p:cNvSpPr/>
          <p:nvPr/>
        </p:nvSpPr>
        <p:spPr>
          <a:xfrm>
            <a:off x="3887640" y="2735280"/>
            <a:ext cx="3708720" cy="67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20836"/>
          <p:cNvSpPr/>
          <p:nvPr/>
        </p:nvSpPr>
        <p:spPr>
          <a:xfrm>
            <a:off x="1322280" y="4005360"/>
            <a:ext cx="656280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20837"/>
          <p:cNvSpPr/>
          <p:nvPr/>
        </p:nvSpPr>
        <p:spPr>
          <a:xfrm>
            <a:off x="4573440" y="4653000"/>
            <a:ext cx="352764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20838"/>
          <p:cNvSpPr/>
          <p:nvPr/>
        </p:nvSpPr>
        <p:spPr>
          <a:xfrm>
            <a:off x="1576440" y="5834160"/>
            <a:ext cx="421956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119809" descr=""/>
          <p:cNvPicPr/>
          <p:nvPr/>
        </p:nvPicPr>
        <p:blipFill>
          <a:blip r:embed="rId1"/>
          <a:stretch/>
        </p:blipFill>
        <p:spPr>
          <a:xfrm>
            <a:off x="500040" y="1171440"/>
            <a:ext cx="8143920" cy="4515120"/>
          </a:xfrm>
          <a:prstGeom prst="rect">
            <a:avLst/>
          </a:prstGeom>
          <a:ln w="0">
            <a:noFill/>
          </a:ln>
        </p:spPr>
      </p:pic>
      <p:sp>
        <p:nvSpPr>
          <p:cNvPr id="1476" name="矩形 119810"/>
          <p:cNvSpPr/>
          <p:nvPr/>
        </p:nvSpPr>
        <p:spPr>
          <a:xfrm>
            <a:off x="7862760" y="2239920"/>
            <a:ext cx="5032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图片 118785" descr=""/>
          <p:cNvPicPr/>
          <p:nvPr/>
        </p:nvPicPr>
        <p:blipFill>
          <a:blip r:embed="rId1"/>
          <a:stretch/>
        </p:blipFill>
        <p:spPr>
          <a:xfrm>
            <a:off x="628560" y="2124000"/>
            <a:ext cx="78868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图片 117761" descr=""/>
          <p:cNvPicPr/>
          <p:nvPr/>
        </p:nvPicPr>
        <p:blipFill>
          <a:blip r:embed="rId1"/>
          <a:stretch/>
        </p:blipFill>
        <p:spPr>
          <a:xfrm>
            <a:off x="471600" y="2638440"/>
            <a:ext cx="8200800" cy="1581120"/>
          </a:xfrm>
          <a:prstGeom prst="rect">
            <a:avLst/>
          </a:prstGeom>
          <a:ln w="0">
            <a:noFill/>
          </a:ln>
        </p:spPr>
      </p:pic>
      <p:sp>
        <p:nvSpPr>
          <p:cNvPr id="1479" name="矩形 117762"/>
          <p:cNvSpPr/>
          <p:nvPr/>
        </p:nvSpPr>
        <p:spPr>
          <a:xfrm>
            <a:off x="7736040" y="3205080"/>
            <a:ext cx="502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18:44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